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2804-F446-4E2F-BF6A-2D30D4DAE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2DBF-DC9D-47B0-9127-127D0132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4528-9039-4740-9A72-F9C4E4399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993F-F7F1-4DC8-B2AB-B051CFDF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827F-C0F1-4D2E-B5A6-5EB7C66FD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D97B-5C2E-4FF2-96E8-D4267711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050B-4D16-4459-B6C9-47FBAFEA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4879-8121-43B1-94AA-79251F97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6E1B-ADD6-47BB-B19F-414A6375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A308-B26A-414E-99B4-6FC7DC01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C664-23C2-41D2-8247-F269A6EE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0D96-9166-4213-B1A0-ED87F6E9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4EC6-720F-40C7-AB2D-D55ABDB2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CC06-D2F5-405B-875D-0A6AE1D0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029A-2EC1-4CB0-A77D-01773B51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CE6B-623A-4E18-A196-4B1F3FB6B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1482-F57C-4506-9DE8-3FF7F99F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C1B2-5E3B-4444-8CF6-899969ED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9D6C-A63E-488D-9D65-103CF40F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8B43-3135-4022-8AA4-8A414B6B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2CEC-7A22-4278-BD67-A8D86464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6286-A130-4274-9BE2-9443DF5E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F2AB-1C7D-4CB0-A969-09D490DE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1499-F27A-4457-B7AD-D241FF63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B9AB-951A-4F25-9077-859F71C0CB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7440-6EEF-4005-B888-7B67F4FEA4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1676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Till There Was No Remedy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(The Divided Kingdom)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41148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6, Lesson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31-3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Kings 20:22 – 21:2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 The Last Less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hab Defeated a Syrian Att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-Hadad of Syria lost many horses and chari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showed Ahab this to try once more to let him know that “I am the Lor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Syrians Come Agai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Kings 20:22-3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eparation: A Prophet Warns Ahab – 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-Hadad’s false assurance of victory-23-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phecy: Ahab will win again because Israel’s enemy defames the name of God – 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flict: The Arameans lose 127,000 – v.29-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clusion: Ben-hadad’s officers beg for mercy from King Ahab; and Ahab will make a treaty in disobedience to God. V.31-3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505320" y="1905120"/>
            <a:ext cx="533160" cy="380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962520" y="1219320"/>
            <a:ext cx="2133360" cy="838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1143000"/>
            <a:ext cx="23619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yrians are Arame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 is the likely place of battle between Israel and the forces of Ben-ha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 Prophet Rebukes Ahab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931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Kings 20:35-4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rophet Illustrates Ahab’s Mist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-hadad should not have been spa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icts Ahab’s death and the slaughter of Israel, v. 35-4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aboth’s Vineyar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Kings 21:1-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ab’s request – v.1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both’s refusal – v.3-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zebel’s reprisal – v.5-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both is maligned – 5-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both is murdered – 11-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ab is confronted and condemned by Elijah – v.17-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ab’s contrition – v.25-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735120"/>
            <a:ext cx="8915400" cy="5789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286000" y="4343400"/>
            <a:ext cx="1295280" cy="76212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276720" y="0"/>
            <a:ext cx="5867280" cy="3863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3T02:02:15Z</dcterms:created>
  <dc:creator>Terry W. Benton</dc:creator>
  <dc:description/>
  <dc:language>en-US</dc:language>
  <cp:lastModifiedBy>Frank D Vines</cp:lastModifiedBy>
  <dcterms:modified xsi:type="dcterms:W3CDTF">2005-07-26T12:31:38Z</dcterms:modified>
  <cp:revision>4</cp:revision>
  <dc:subject/>
  <dc:title>Till There Was No Remedy (The Divided Kingdom)</dc:title>
</cp:coreProperties>
</file>